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C77-B534-468F-A005-2814D54E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9D6-5E67-4023-8A9F-B6E89E7F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5D8-D60D-4EC6-8AB8-B22EA7C3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B125-4E3E-4E5D-A20A-0463D7A0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72F-B266-4457-87D4-6DCCA586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401-FDF4-49BB-8413-EBDBB6B1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6196-33A1-4679-BFBA-0016009F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479-D721-40F0-B04A-8E13B691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DE44-C7F2-4FE0-ABF6-A89CAEEF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9C88-A9A8-4A42-8E10-91DD8710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4445-1477-4D80-B5F0-995AEFDC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7193-0BD1-48DF-A3CA-1331594F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2B6D-C6A0-4858-82FC-3ABA66707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716040"/>
            <a:ext cx="9144000" cy="63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n portion (Famil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ther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the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ster or br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s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ndm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nd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nt or un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rne/o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nten/u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der M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Preposi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wis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_______/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809880" y="228600"/>
            <a:ext cx="3962520" cy="71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 (famil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included all family member names and relationshi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missing 2 family member names and relationshi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missing family member names and relationshi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issing 4 family member names and relationshi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– missing more than 5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 (direction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– included all direction words &amp;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issing 1 or 2 direction word &amp;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– missing 4 or more direction words &amp;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nunciation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pronunciation sound very close to a native speakers for this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pronunciation does not interfere with presentation, but some mispronunciation (pronounced like Engl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many words were mispronounced, however, a sympathetic listener could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understanding was difficult.  Understanding could only be achieved by reading the written scr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Very few pauses or very little stumbling over words, sounds close to  a native speaker’s language for this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esitation, but thoughts are complete phrased and intoned prop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ppy, slow, many thoughts are not phrased and intoned prop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ort (spok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added extra information in th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fulfilled all the required elements, but did nothing to enhance th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issing family members (pictures and infor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0" y="0"/>
            <a:ext cx="37339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 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447920" y="912960"/>
            <a:ext cx="251460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7924680" y="1143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/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304920"/>
            <a:ext cx="9144000" cy="69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ritten por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r /brother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s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dmoth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dfa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nt or unc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t/g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eber/bess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 liebsten/ am best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os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wisch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b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r/üb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er/hi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(numbers written out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time activ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in scho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you are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572000" y="20520"/>
            <a:ext cx="4572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included all required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missing 2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issing 4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– missing 6 or more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ura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mostly correct, mistakes are minor (word order or spel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mostly correct, mistakes are mostly minor, but errors exists in the required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mistakes make meaning unclear in some places, or mistakes with requirements and verb conju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any mistakes in the requirements show inadequate mastery of the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o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- added family members or extra vocabulary from previous lessons to enhance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fulfilled al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did not complete the project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laborative Effo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Student collaborated with teacher to revis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student put for minimal effort at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–no 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4800600" y="4267080"/>
            <a:ext cx="3429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/32 (this s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/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/ 77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8:47:32Z</dcterms:created>
  <dc:creator>udsd</dc:creator>
  <dc:description/>
  <dc:language>en-US</dc:language>
  <cp:lastModifiedBy>tmsadmin</cp:lastModifiedBy>
  <dcterms:modified xsi:type="dcterms:W3CDTF">2014-02-27T16:57:28Z</dcterms:modified>
  <cp:revision>14</cp:revision>
  <dc:subject/>
  <dc:title>Slide 1</dc:title>
</cp:coreProperties>
</file>